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41D7-07DF-45FD-9372-50D9693A0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4A89-B68D-45FC-AAC7-4965E21AF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C431-9730-4E5E-A2EE-2D3A2A492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B398-59CE-4AE1-923A-4D1784DB3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ea typeface="B Titr"/>
              </a:rPr>
              <a:t>"چگونه موج رفتار موجی نشان می دهد"،"چگونه نویسنده های معروف خوانندگانشان را روی داستان میخکوب می کنند"،"چه مدلی چرخه اقتصادی را بهتر نشان می دهد؟"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cs typeface="B Titr"/>
              </a:rPr>
              <a:t>در محاسبات: چه خطاهایی اجتناب نا پذیراست؟-چند درصد خطا قابل قبول است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D296-3DC7-49B6-8A72-FDB0D08F5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677A-4580-49A9-A171-9559ECAF5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D0B7-7F4A-472B-B770-F0FEA9D84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حقيقي: شامل دانش و مهارت مورد نياز براي موفق شدن در خارج از مدرسه استاك هاي شناخته شده در سطح پيشرفته اي است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از: مبتني بر استاندارد و ملاك هاي معلوم با ظرفيت هاي خاص براي دانش آموزان، معلمان و اوليا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دون جهت گيري: اجازه استفاده از فرآيندي تبعيض آميز و غير عادلانه نمي شود را نمي دهد و براي سبك هاي يادگيري و پيشينه و فرهنگ دانش آموزان احترام قائل مي شود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مستلزم استفاده از دانش توليد شده است: نياز مند آ است كه دانش آموزان دانش جديدي را توليد كنند و آن را براي حل مسئله بكار مي گيرن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فرآيند- شفاف كننده است: مستلزم آن است كه دانش آموزان چيزي را توليدي/ اجرايي كنند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شفاف كننده دانش آموز است: دانش آموزان را درگير خود ارزشيابي و توسعه ابزار هاي سنجش مي‌كند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طولي: سنجش دانش آموزان در طول زمان بسط داده مي‌شو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5A87-FD33-4249-B143-178F1BEAA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« 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عجز جاافتاده -نهادينه شده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killed incompe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انسان هايي با اين ويژگي، به طر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شگفت انگيزي در دور نگه داشتن خود از فرصت هاي يادگيري، ورزيده اند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ناتواني در يادگيري يا امتناع از يادگيري از ديرباز و براي دوره ها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طولاني گريبان آدمي را گرفته است و آموزش هاي رسمي نيز معمولا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در تغيير اين وضع ناكام بوده اند. درس پژوهي تا حدود زيادي مي توان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ه مؤسسات آموزشي كمك كند تا خود را متحول سازند و ب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كارگزاران آموزشي ياري رساند تا بر احساس ناتواني سازماندهي تغيي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يا امتناع از يادگيري، ترس از دانستن و فرار از آگاهي فائق آيند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4807-61BE-4E19-9776-AD389C7E5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3A5-5251-4DEC-BC28-CDB45B54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472-6035-45CF-BBCE-EEBB4C5B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AE1-B0AC-4C87-883B-4213DA62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6F9-5EE3-4BCE-8A3E-D81F3FEF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F06E-8BC0-44CB-AC17-A9D3D5DE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3558-0E67-432D-8041-27D51D4E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18EA-DC0E-453C-BA12-5A8FC611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9279-23EA-4A50-AA19-E27AFF53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328A-0215-4DFB-B066-E249682C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B898-9332-4CD6-947C-7331CE2B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DF07-A728-4D0C-90B8-462B8CE6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E95-AE9E-4264-A4CE-16FB9F07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8C5C-8301-4A85-9F0C-2584F389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D2BE-190E-4A29-9A7D-B31EF040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391C-430C-4893-93F4-623CA7C4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EDA6-6CBA-4D56-9A46-AA983D44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3F58-46DD-4C8F-ADFA-147F202E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0203A-7ABA-42F5-8759-0547A181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0F1C-8301-4AF6-9965-2EA6E63B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D042-D0D8-42A8-A5BC-CD2BC6B7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4A99-E407-43B9-A08C-469B5DE1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E2C1-C511-4161-BBBF-DFC68C78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E02-4419-4129-B102-E8D87DFF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9AE5-0E93-4CFE-BC5F-BFF28EF2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D3BE-1A44-4A35-A132-377E42D2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1182-245D-460F-955B-0122E9D5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AFD0D-EBA7-44E1-8046-E23341E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37C5-2743-4B48-A3D8-60577A4E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9158F-9947-421E-93F8-2EF30AB7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6DDB-F605-476E-BDAB-FB67F1E4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307D-951B-4095-AD65-3514B1F0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F0B2-8F5F-4831-854C-E3D207C7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D3B09-8F45-4475-81C5-076AA7F9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64D-8259-4F1C-A466-72BE6215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B72CB-32DD-4931-9A0E-9EE0F2FF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6679-8DCC-478E-9657-FFB4BDB8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0789E-D783-4CE1-A702-82E63DA7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4160-A19B-4DAD-A9CB-BD9C5261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98AB6-10B1-4524-884E-A4690C60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09557-1042-404F-956D-B2F94509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D7C21-C834-4A03-8504-FF7B814F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55EE-2A43-48A7-BD38-552A9A36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A633-1478-4EA3-A53E-810A6EF1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2CBA-0B3C-4032-9847-1EC354FC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0DB-EB74-4737-96BD-8038CB32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B29B3-A229-42D0-A56A-E3A78250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A6FB7-C083-439A-8460-73FAA947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060AB-1DA0-4ABC-9A0B-9E25BDCE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BBE8F-C995-4714-A4A2-9998B110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F0B5-0B46-4B68-AA17-A32B4B40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9689-4763-416E-B31B-DAF1D9B8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379E9-E9C6-4998-B774-AB16CB2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C085E-7EA0-48DE-8538-53E4BA0A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5AC49-AE68-4142-AE97-8A5871F9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D9893-8B09-4794-A3D9-3677C874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361-B980-494C-A5E2-F61D44D2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B0ADA-68C4-436D-9818-5C43C2F3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49A-80F7-48D3-AD74-AAFC110A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540-70FE-471B-A7D5-B29D2E12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CF3-1537-4421-8FC7-A9CD4F0F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0CB9-A6EB-48D1-A74F-6AEBADEFCE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19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8335-0984-48EA-947D-9F6D8D84C7A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F385-8A16-4C60-BF8D-6FC910D454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CBB0-B06B-413C-A5F7-DC129564D3B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69E5-6876-4BAE-B8D7-D015F1B9F1F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c6a52"/>
                </a:solidFill>
                <a:latin typeface="Perpetua"/>
                <a:cs typeface="B Titr"/>
              </a:rPr>
              <a:t>با سپاس از همراهی و همدلی همه شما بزرگواران در اجرای برنامه کارورزی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38677"/>
                </a:solidFill>
                <a:latin typeface="Perpetua"/>
                <a:cs typeface="B Titr"/>
              </a:rPr>
              <a:t>کارگاه آموزشی مدرسان کارورزی(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4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38677"/>
                </a:solidFill>
                <a:latin typeface="Perpetua"/>
                <a:cs typeface="B Titr"/>
              </a:rPr>
              <a:t>دی ماه 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139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بسم الله الرحمن الرحیم</a:t>
            </a:r>
            <a:endParaRPr b="0" lang="en-US" sz="54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نقشه های ذه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62" name="Subtitle 2"/>
          <p:cNvGrpSpPr/>
          <p:nvPr/>
        </p:nvGrpSpPr>
        <p:grpSpPr>
          <a:xfrm>
            <a:off x="1133640" y="3114720"/>
            <a:ext cx="6651360" cy="3371760"/>
            <a:chOff x="1133640" y="3114720"/>
            <a:chExt cx="6651360" cy="3371760"/>
          </a:xfrm>
        </p:grpSpPr>
        <p:pic>
          <p:nvPicPr>
            <p:cNvPr id="263" name="Subtitle 2" descr=""/>
            <p:cNvPicPr/>
            <p:nvPr/>
          </p:nvPicPr>
          <p:blipFill>
            <a:blip r:embed="rId1"/>
            <a:stretch/>
          </p:blipFill>
          <p:spPr>
            <a:xfrm>
              <a:off x="1133640" y="3114720"/>
              <a:ext cx="665136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295280" y="3200400"/>
              <a:ext cx="64008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b050"/>
                  </a:solidFill>
                  <a:latin typeface="Perpetua"/>
                  <a:cs typeface="B Titr"/>
                </a:rPr>
                <a:t>نقشه هاي ذهنی روشي براي بازنمايي بصري اطلاعات هستند.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b050"/>
                  </a:solidFill>
                  <a:latin typeface="Perpetua"/>
                  <a:cs typeface="B Titr"/>
                </a:rPr>
                <a:t>تهیه نقشه ي ذهنی به ما كمك مي كند تا اطلاعاتي را كه از قبل درباره ي يك موضوع مي دانيم روي هم بگذاريم و مطلب جديد را، همچنان كه آن را ياد مي گيريم، درک کنیم. 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10"/>
          <p:cNvSpPr/>
          <p:nvPr/>
        </p:nvSpPr>
        <p:spPr>
          <a:xfrm>
            <a:off x="1981080" y="1219320"/>
            <a:ext cx="1981440" cy="160020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236232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Perpetua"/>
                <a:cs typeface="B Titr"/>
              </a:rPr>
              <a:t>موجود زند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4876920" y="2666880"/>
            <a:ext cx="838080" cy="83844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4952880" y="2895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Perpetua"/>
                <a:cs typeface="B Titr"/>
              </a:rPr>
              <a:t>گیا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69" name="Straight Arrow Connector 15"/>
          <p:cNvCxnSpPr>
            <a:stCxn id="265" idx="5"/>
          </p:cNvCxnSpPr>
          <p:nvPr/>
        </p:nvCxnSpPr>
        <p:spPr>
          <a:xfrm>
            <a:off x="3671640" y="2584440"/>
            <a:ext cx="1129320" cy="388080"/>
          </a:xfrm>
          <a:prstGeom prst="straightConnector1">
            <a:avLst/>
          </a:prstGeom>
          <a:ln w="28440">
            <a:solidFill>
              <a:srgbClr val="63ac27"/>
            </a:solidFill>
            <a:miter/>
            <a:tailEnd len="med" type="arrow" w="med"/>
          </a:ln>
        </p:spPr>
      </p:cxnSp>
      <p:sp>
        <p:nvSpPr>
          <p:cNvPr id="270" name="Oval 16"/>
          <p:cNvSpPr/>
          <p:nvPr/>
        </p:nvSpPr>
        <p:spPr>
          <a:xfrm>
            <a:off x="2514600" y="3429000"/>
            <a:ext cx="838080" cy="83808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71" name="Straight Arrow Connector 17"/>
          <p:cNvCxnSpPr>
            <a:stCxn id="265" idx="3"/>
            <a:endCxn id="270" idx="0"/>
          </p:cNvCxnSpPr>
          <p:nvPr/>
        </p:nvCxnSpPr>
        <p:spPr>
          <a:xfrm>
            <a:off x="2271240" y="2584440"/>
            <a:ext cx="662760" cy="845280"/>
          </a:xfrm>
          <a:prstGeom prst="straightConnector1">
            <a:avLst/>
          </a:prstGeom>
          <a:ln w="28440">
            <a:solidFill>
              <a:srgbClr val="63ac2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Marziyeh\Desktop\mm_health.jpg"/>
          <p:cNvPicPr/>
          <p:nvPr/>
        </p:nvPicPr>
        <p:blipFill>
          <a:blip r:embed="rId1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واحد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3200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یک واحد یادگیری عبارت است از چند رویداد یادگیری به هم مرتبط و معنادار که با ارائه‌ی آن دانش آموز می‌تواند به شایستگی مهمی دست یابد</a:t>
            </a:r>
            <a:r>
              <a:rPr b="0" lang="fa-IR" sz="2800" spc="-1" strike="noStrike">
                <a:solidFill>
                  <a:srgbClr val="0070c0"/>
                </a:solidFill>
                <a:latin typeface="Perpetua"/>
                <a:ea typeface="B Tit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3399"/>
                </a:solidFill>
                <a:latin typeface="Perpetua"/>
                <a:cs typeface="B Titr"/>
              </a:rPr>
              <a:t>هدف از طراحی یک واحد یادگیری آن است که یادگیرنده بتواند از آنچه یاد می‌گیرد معنای تازه‏ای بسازد و آنچه آموخته است را با استقلال و اثربخشی روز افزون در موقعیت های پیچیده ی جهان واقعی به کار ببرد</a:t>
            </a:r>
            <a:r>
              <a:rPr b="0" lang="fa-IR" sz="2800" spc="-1" strike="noStrike">
                <a:solidFill>
                  <a:srgbClr val="ff3399"/>
                </a:solidFill>
                <a:latin typeface="Perpetua"/>
                <a:ea typeface="B Tit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Subtitle 4" descr=""/>
          <p:cNvPicPr/>
          <p:nvPr/>
        </p:nvPicPr>
        <p:blipFill>
          <a:blip r:embed="rId1"/>
          <a:stretch/>
        </p:blipFill>
        <p:spPr>
          <a:xfrm>
            <a:off x="1279440" y="3097080"/>
            <a:ext cx="6426360" cy="33163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آشنایی با اصطلاحات در طراحی واحد یادگیری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ontent Placeholder 2" descr=""/>
          <p:cNvPicPr/>
          <p:nvPr/>
        </p:nvPicPr>
        <p:blipFill>
          <a:blip r:embed="rId1"/>
          <a:stretch/>
        </p:blipFill>
        <p:spPr>
          <a:xfrm>
            <a:off x="1279440" y="3157560"/>
            <a:ext cx="6529320" cy="29512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تحلیل متن آموزش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80520" y="3200040"/>
            <a:ext cx="8077320" cy="2438280"/>
          </a:xfrm>
          <a:prstGeom prst="rect">
            <a:avLst/>
          </a:prstGeom>
          <a:solidFill>
            <a:srgbClr val="0082a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ایده های کلیدی/ مفاهیم و مهارت های اساسی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قوانین/ قواعد/ اصول/ تعمیم ها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حقایق و اطلاعات جزئی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حتوا در برنامه درسی(کتاب درسی)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Franklin Gothic Book"/>
                <a:cs typeface="B Titr"/>
              </a:rPr>
              <a:t>شایستگی ها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82" name="Content Placeholder 2"/>
          <p:cNvGrpSpPr/>
          <p:nvPr/>
        </p:nvGrpSpPr>
        <p:grpSpPr>
          <a:xfrm>
            <a:off x="-353880" y="1554120"/>
            <a:ext cx="9248760" cy="5505480"/>
            <a:chOff x="-353880" y="1554120"/>
            <a:chExt cx="9248760" cy="5505480"/>
          </a:xfrm>
        </p:grpSpPr>
        <p:pic>
          <p:nvPicPr>
            <p:cNvPr id="28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353880" y="1554120"/>
              <a:ext cx="9248760" cy="55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28600" y="1600200"/>
              <a:ext cx="861048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تلفیق پذیر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یک شایستگی تلفیق منسجمی از عناصر مورد نیاز برای حل مساله های تربیتی است. 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پایدار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یک ویژگی شایستگی تداوم، پایداری و قابلیت توسعه آن در گذر زمان است. اهداف متکی بر محتوا (برای مثال دانش و مهارت ) با گذشت زمان تغییر می کند</a:t>
              </a:r>
              <a:r>
                <a:rPr b="1" lang="en-US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.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خاص بودن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شایستگی ها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ترکیبی از مهارت های شناختی و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فراشناختی،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مهارت ها، دانش (دانش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آشکار و دانش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ضمنی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)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انگیزش، ارزش ها، نگرش ها، هیجا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ن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ات و رفتار های اجتماعی که برای انجام یک عمل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حرفه‏ای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در زمینه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‏ای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 خاصی بسیج می شوند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669960" y="255600"/>
            <a:ext cx="780408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86" name="Content Placeholder 2"/>
          <p:cNvGrpSpPr/>
          <p:nvPr/>
        </p:nvGrpSpPr>
        <p:grpSpPr>
          <a:xfrm>
            <a:off x="554040" y="1536840"/>
            <a:ext cx="8126280" cy="5735520"/>
            <a:chOff x="554040" y="1536840"/>
            <a:chExt cx="8126280" cy="5735520"/>
          </a:xfrm>
        </p:grpSpPr>
        <p:pic>
          <p:nvPicPr>
            <p:cNvPr id="28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54040" y="1536840"/>
              <a:ext cx="8126280" cy="57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85800" y="1752480"/>
              <a:ext cx="77724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شایستگی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یادگیری باید شامل: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موقعیت/ مسئله‏ای که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منجر به ساخت معنی 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از سوی 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دانش آموز می شود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و می تواند یادگیری رابه موقعیت جدید انتقال دهد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توانایی ها/ قابلیت های یادگیرنده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،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ملاک های ارزیابی عملکرد (شواهد)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سطح عملکرد (کیفت/ کمیت)/ تولید مورد انتظار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(آنچه پیش بینی شده و آن برآمده از موقعیت است)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>
                <a:lnSpc>
                  <a:spcPct val="90000"/>
                </a:lnSpc>
                <a:spcBef>
                  <a:spcPts val="575"/>
                </a:spcBef>
                <a:buClr>
                  <a:srgbClr val="7fd13b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با درک مسئولیت ها در قبال سلامت و بهداشت جامعه، در برنامه های ارتقای سلامت/ تفریحات سالم/ سالم سازی محیط زیست مشارکت ‏کند و بر اساس نتایج آن برای حفظ/ارتقاء سلامت در زندگی خود تصمیم گیری نماید</a:t>
            </a:r>
            <a:r>
              <a:rPr b="0" lang="fa-IR" sz="2800" spc="-1" strike="noStrike">
                <a:solidFill>
                  <a:srgbClr val="00b050"/>
                </a:solidFill>
                <a:latin typeface="Perpetu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38" name="Subtitle 4"/>
          <p:cNvGrpSpPr/>
          <p:nvPr/>
        </p:nvGrpSpPr>
        <p:grpSpPr>
          <a:xfrm>
            <a:off x="347760" y="1219320"/>
            <a:ext cx="8454960" cy="5010120"/>
            <a:chOff x="347760" y="1219320"/>
            <a:chExt cx="8454960" cy="5010120"/>
          </a:xfrm>
        </p:grpSpPr>
        <p:pic>
          <p:nvPicPr>
            <p:cNvPr id="239" name="Subtitle 4" descr=""/>
            <p:cNvPicPr/>
            <p:nvPr/>
          </p:nvPicPr>
          <p:blipFill>
            <a:blip r:embed="rId1"/>
            <a:stretch/>
          </p:blipFill>
          <p:spPr>
            <a:xfrm>
              <a:off x="347760" y="1219320"/>
              <a:ext cx="845496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09480" y="1523880"/>
              <a:ext cx="8001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-</a:t>
              </a:r>
              <a:endParaRPr b="0" lang="en-US" sz="3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5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cs typeface="B Titr"/>
                </a:rPr>
                <a:t>هدف عملیاتی </a:t>
              </a: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11</a:t>
              </a: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 سند تحول</a:t>
              </a:r>
              <a:endParaRPr b="0" lang="en-US" sz="3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5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«بازمهندسی سیاست‌ها و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بازتنظیم اصول حاکم بر برنامه‌ درسی تربیت معلم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با تأکید بر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کارورزی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و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انطباق </a:t>
              </a:r>
              <a:r>
                <a:rPr b="1" lang="ar-SA" sz="2600" spc="-1" strike="noStrike" u="sng">
                  <a:solidFill>
                    <a:srgbClr val="fff1ce"/>
                  </a:solidFill>
                  <a:uFillTx/>
                  <a:latin typeface="Perpetua"/>
                  <a:cs typeface="B Titr"/>
                </a:rPr>
                <a:t>سطح شایستگی‌های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حرفه‌ای معلمان در سطح ملی و جهانی با مقتضیات الگوی برنامه درسی در نظام تعلیم و تربیت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و طراحی سیاست‌های مناسب برای ارتقای شیوه‌های جذب، تربیت و نگهداشت معلمان در آموزش و پرورش». 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785880" y="158760"/>
            <a:ext cx="8023320" cy="1395360"/>
          </a:xfrm>
          <a:prstGeom prst="rect">
            <a:avLst/>
          </a:prstGeom>
          <a:ln w="0">
            <a:noFill/>
          </a:ln>
        </p:spPr>
      </p:pic>
      <p:pic>
        <p:nvPicPr>
          <p:cNvPr id="292" name="TextBox 3" descr=""/>
          <p:cNvPicPr/>
          <p:nvPr/>
        </p:nvPicPr>
        <p:blipFill>
          <a:blip r:embed="rId2"/>
          <a:stretch/>
        </p:blipFill>
        <p:spPr>
          <a:xfrm>
            <a:off x="225360" y="1427040"/>
            <a:ext cx="885204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785880" y="158760"/>
            <a:ext cx="8023320" cy="139536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 3" descr=""/>
          <p:cNvPicPr/>
          <p:nvPr/>
        </p:nvPicPr>
        <p:blipFill>
          <a:blip r:embed="rId2"/>
          <a:stretch/>
        </p:blipFill>
        <p:spPr>
          <a:xfrm>
            <a:off x="-6480" y="1859040"/>
            <a:ext cx="90838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785880" y="64620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ea typeface="B Titr"/>
              </a:rPr>
              <a:t>«چگونه موج رفتار موجی نشان می دهد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ea typeface="B Titr"/>
              </a:rPr>
              <a:t>«چگونه نویسنده های معروف خوانندگانشان را روی داستان میخکوب می کنند؟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ea typeface="B Titr"/>
              </a:rPr>
              <a:t>«چه مدلی چرخه اقتصادی را بهتر نشان می دهد؟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2" descr=""/>
          <p:cNvPicPr/>
          <p:nvPr/>
        </p:nvPicPr>
        <p:blipFill>
          <a:blip r:embed="rId1"/>
          <a:stretch/>
        </p:blipFill>
        <p:spPr>
          <a:xfrm>
            <a:off x="658800" y="3041640"/>
            <a:ext cx="7656480" cy="35971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یده کلید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ساختار و عملکر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سیستم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الگو ها و روابط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سلامت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ontent Placeholder 2" descr=""/>
          <p:cNvPicPr/>
          <p:nvPr/>
        </p:nvPicPr>
        <p:blipFill>
          <a:blip r:embed="rId1"/>
          <a:stretch/>
        </p:blipFill>
        <p:spPr>
          <a:xfrm>
            <a:off x="1054080" y="3486240"/>
            <a:ext cx="6632640" cy="29271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فاهیم اساس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مو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cce0c"/>
                </a:solidFill>
                <a:latin typeface="Perpetua"/>
                <a:cs typeface="B Titr"/>
              </a:rPr>
              <a:t>ناحی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عد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3399"/>
                </a:solidFill>
                <a:latin typeface="Perpetua"/>
                <a:cs typeface="B Titr"/>
              </a:rPr>
              <a:t>تورّ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1daff"/>
                </a:solidFill>
                <a:latin typeface="Perpetua"/>
                <a:cs typeface="B Titr"/>
              </a:rPr>
              <a:t>اکوسیست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ae2c83"/>
                </a:solidFill>
                <a:latin typeface="Perpetua"/>
                <a:cs typeface="B Titr"/>
              </a:rPr>
              <a:t>جنبش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Content Placeholder 2" descr=""/>
          <p:cNvPicPr/>
          <p:nvPr/>
        </p:nvPicPr>
        <p:blipFill>
          <a:blip r:embed="rId1"/>
          <a:stretch/>
        </p:blipFill>
        <p:spPr>
          <a:xfrm>
            <a:off x="1017720" y="3181320"/>
            <a:ext cx="6840360" cy="2774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هارت های اساس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محاسب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ترسیم نقش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تصمیم گیری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گوش دادن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اصل: انبساط و انقباض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تعمیم: فلزات در اثر حرات منبسط می شون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اطلاعات جزئی: فاصله زمین تا خورشید </a:t>
            </a:r>
            <a:r>
              <a:rPr b="0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یک واحد نجومی است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قاعده: ساخت فعل مضارع از بن فعل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772400" cy="4572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-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cs typeface="B Titr"/>
              </a:rPr>
              <a:t>هدف عملیاتی </a:t>
            </a: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11</a:t>
            </a: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 سند تحول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cs typeface="B Titr"/>
              </a:rPr>
              <a:t>استقرار سازوکارهای</a:t>
            </a:r>
            <a:r>
              <a:rPr b="0" lang="fa-IR" sz="4600" spc="-1" strike="noStrike">
                <a:solidFill>
                  <a:srgbClr val="fff1ce"/>
                </a:solidFill>
                <a:latin typeface="Perpetua"/>
                <a:ea typeface="B Titr"/>
              </a:rPr>
              <a:t> ارتقای توانمندی های معلمان برای مشارکت مؤثر آنان در برنامه‏ریزی درسی در سطح مدرسه، به ویژه سازوکار هایی که به تقویت هویت حرقه‏ای آنان می‏انجامد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. (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6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-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11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)</a:t>
            </a:r>
            <a:r>
              <a:rPr b="0" lang="fa-IR" sz="4600" spc="-1" strike="noStrike">
                <a:solidFill>
                  <a:srgbClr val="fff1ce"/>
                </a:solidFill>
                <a:latin typeface="Perpetua"/>
                <a:ea typeface="B Titr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2d050"/>
                </a:solidFill>
                <a:latin typeface="Franklin Gothic Book"/>
                <a:cs typeface="B Titr"/>
              </a:rPr>
              <a:t>شواهد یادگیری مطلوب کدامند؟</a:t>
            </a:r>
            <a:br>
              <a:rPr sz="3600"/>
            </a:br>
            <a:r>
              <a:rPr b="1" lang="ar-SA" sz="3600" spc="-1" strike="noStrike">
                <a:solidFill>
                  <a:srgbClr val="92d050"/>
                </a:solidFill>
                <a:latin typeface="Franklin Gothic Book"/>
                <a:ea typeface="B Titr"/>
              </a:rPr>
              <a:t> 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به طور خاص چه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شواهد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ی حاکی از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درک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عمیق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 است؟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80520" y="304776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b050"/>
                </a:solidFill>
                <a:latin typeface="Perpetua"/>
                <a:cs typeface="B Titr"/>
              </a:rPr>
              <a:t>چگونه می توان فهمید که دانش آموز به نتایج مطلوب و استانداردها در برنامه درسی دست یافته اند؟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4e5b6f"/>
                </a:solidFill>
                <a:latin typeface="Perpetua"/>
                <a:ea typeface="B Titr"/>
              </a:rPr>
              <a:t> </a:t>
            </a:r>
            <a:r>
              <a:rPr b="0" lang="fa-IR" sz="3500" spc="-1" strike="noStrike">
                <a:solidFill>
                  <a:srgbClr val="ff0000"/>
                </a:solidFill>
                <a:latin typeface="Perpetua"/>
                <a:cs typeface="B Titr"/>
              </a:rPr>
              <a:t>چگونه می توان دریافت که دانش آموز "ایده کلید" را به درستی درک کرده اند؟ 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70c0"/>
                </a:solidFill>
                <a:latin typeface="Perpetua"/>
                <a:cs typeface="B Titr"/>
              </a:rPr>
              <a:t>چه شواهدی دست یابی دانش آموز به تمام شایستگی ها را تایید می کند؟ 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320" y="1371240"/>
            <a:ext cx="8991360" cy="1600200"/>
          </a:xfrm>
          <a:prstGeom prst="rect">
            <a:avLst/>
          </a:prstGeom>
          <a:solidFill>
            <a:srgbClr val="caf7f1"/>
          </a:solidFill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435faa"/>
                </a:solidFill>
                <a:latin typeface="Franklin Gothic Book"/>
                <a:cs typeface="B Titr"/>
              </a:rPr>
              <a:t>ويژگي هاي تکالیف عملكرد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14" name="Diagram 4" descr=""/>
          <p:cNvPicPr/>
          <p:nvPr/>
        </p:nvPicPr>
        <p:blipFill>
          <a:blip r:embed="rId1"/>
          <a:stretch/>
        </p:blipFill>
        <p:spPr>
          <a:xfrm>
            <a:off x="596880" y="2932200"/>
            <a:ext cx="79138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Title 3"/>
          <p:cNvGrpSpPr/>
          <p:nvPr/>
        </p:nvGrpSpPr>
        <p:grpSpPr>
          <a:xfrm>
            <a:off x="-55440" y="195120"/>
            <a:ext cx="9235800" cy="2865600"/>
            <a:chOff x="-55440" y="195120"/>
            <a:chExt cx="9235800" cy="2865600"/>
          </a:xfrm>
        </p:grpSpPr>
        <p:pic>
          <p:nvPicPr>
            <p:cNvPr id="316" name="Title 3" descr=""/>
            <p:cNvPicPr/>
            <p:nvPr/>
          </p:nvPicPr>
          <p:blipFill>
            <a:blip r:embed="rId1"/>
            <a:stretch/>
          </p:blipFill>
          <p:spPr>
            <a:xfrm>
              <a:off x="-55440" y="195120"/>
              <a:ext cx="923580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6320" y="228600"/>
              <a:ext cx="8991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چه </a:t>
              </a:r>
              <a:r>
                <a:rPr b="1" lang="fa-IR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آ</a:t>
              </a: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موزش و فعالیت های یادگیری شایستگی </a:t>
              </a:r>
              <a:r>
                <a:rPr b="1" lang="fa-IR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های او </a:t>
              </a: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را رشد می دهد؟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318" name="Subtitle 4" descr=""/>
          <p:cNvPicPr/>
          <p:nvPr/>
        </p:nvPicPr>
        <p:blipFill>
          <a:blip r:embed="rId2"/>
          <a:stretch/>
        </p:blipFill>
        <p:spPr>
          <a:xfrm>
            <a:off x="822240" y="3333600"/>
            <a:ext cx="68835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4ddd4"/>
                </a:solidFill>
                <a:latin typeface="Franklin Gothic Book"/>
                <a:cs typeface="B Titr"/>
              </a:rPr>
              <a:t>انواع فعالیت های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20" name="Subtitle 4" descr=""/>
          <p:cNvPicPr/>
          <p:nvPr/>
        </p:nvPicPr>
        <p:blipFill>
          <a:blip r:embed="rId1"/>
          <a:stretch/>
        </p:blipFill>
        <p:spPr>
          <a:xfrm>
            <a:off x="1279440" y="3181320"/>
            <a:ext cx="642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رقراری ارتباط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تجربه کردن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کاربستن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ه اشتراک گذاشتن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انتقال به موقعیت جدید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راحل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66294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سنج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3352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آموز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2362320" y="1295280"/>
            <a:ext cx="4495680" cy="4114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8dae6"/>
              </a:gs>
              <a:gs pos="100000">
                <a:srgbClr val="06acb0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581280" y="914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برنامه درس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3278160" y="3954240"/>
            <a:ext cx="2665440" cy="649800"/>
          </a:xfrm>
          <a:prstGeom prst="ellipse">
            <a:avLst/>
          </a:prstGeom>
          <a:solidFill>
            <a:srgbClr val="d4e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شایستگ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Line 8"/>
          <p:cNvSpPr/>
          <p:nvPr/>
        </p:nvSpPr>
        <p:spPr>
          <a:xfrm flipH="1">
            <a:off x="2057040" y="1447920"/>
            <a:ext cx="2133720" cy="3657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286000" y="5638680"/>
            <a:ext cx="46483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Line 10"/>
          <p:cNvSpPr/>
          <p:nvPr/>
        </p:nvSpPr>
        <p:spPr>
          <a:xfrm flipH="1" flipV="1">
            <a:off x="5028840" y="1447920"/>
            <a:ext cx="2057400" cy="3657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457200" y="1828800"/>
            <a:ext cx="8153280" cy="2322360"/>
            <a:chOff x="457200" y="1828800"/>
            <a:chExt cx="8153280" cy="2322360"/>
          </a:xfrm>
        </p:grpSpPr>
        <p:sp>
          <p:nvSpPr>
            <p:cNvPr id="332" name="Text Box 3"/>
            <p:cNvSpPr/>
            <p:nvPr/>
          </p:nvSpPr>
          <p:spPr>
            <a:xfrm>
              <a:off x="6310080" y="1833480"/>
              <a:ext cx="1555200" cy="803880"/>
            </a:xfrm>
            <a:prstGeom prst="rect">
              <a:avLst/>
            </a:prstGeom>
            <a:solidFill>
              <a:srgbClr val="b2e3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کنش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3" name="Text Box 4"/>
            <p:cNvSpPr/>
            <p:nvPr/>
          </p:nvSpPr>
          <p:spPr>
            <a:xfrm>
              <a:off x="4365720" y="1828800"/>
              <a:ext cx="1555200" cy="803520"/>
            </a:xfrm>
            <a:prstGeom prst="rect">
              <a:avLst/>
            </a:prstGeom>
            <a:solidFill>
              <a:srgbClr val="f273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تأمل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4" name="Text Box 5"/>
            <p:cNvSpPr/>
            <p:nvPr/>
          </p:nvSpPr>
          <p:spPr>
            <a:xfrm>
              <a:off x="2299680" y="1869840"/>
              <a:ext cx="1715040" cy="80388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چالش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>
              <a:off x="457200" y="1840680"/>
              <a:ext cx="1555200" cy="803520"/>
            </a:xfrm>
            <a:prstGeom prst="rect">
              <a:avLst/>
            </a:prstGeom>
            <a:solidFill>
              <a:srgbClr val="5fe8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احساس امنیت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6" name="Line 7"/>
            <p:cNvSpPr/>
            <p:nvPr/>
          </p:nvSpPr>
          <p:spPr>
            <a:xfrm>
              <a:off x="2040840" y="225900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7" name="Line 8"/>
            <p:cNvSpPr/>
            <p:nvPr/>
          </p:nvSpPr>
          <p:spPr>
            <a:xfrm>
              <a:off x="4075920" y="2259000"/>
              <a:ext cx="27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5977440" y="221220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9" name="Freeform 10"/>
            <p:cNvSpPr/>
            <p:nvPr/>
          </p:nvSpPr>
          <p:spPr>
            <a:xfrm>
              <a:off x="5153040" y="2259000"/>
              <a:ext cx="3191040" cy="1166760"/>
            </a:xfrm>
            <a:custGeom>
              <a:avLst/>
              <a:gdLst>
                <a:gd name="textAreaLeft" fmla="*/ 0 w 3191040"/>
                <a:gd name="textAreaRight" fmla="*/ 3191400 w 3191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5958" h="1838">
                  <a:moveTo>
                    <a:pt x="5189" y="0"/>
                  </a:moveTo>
                  <a:lnTo>
                    <a:pt x="5958" y="0"/>
                  </a:lnTo>
                  <a:lnTo>
                    <a:pt x="5958" y="1838"/>
                  </a:lnTo>
                  <a:lnTo>
                    <a:pt x="0" y="1838"/>
                  </a:lnTo>
                  <a:lnTo>
                    <a:pt x="0" y="8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40" name="Freeform 11"/>
            <p:cNvSpPr/>
            <p:nvPr/>
          </p:nvSpPr>
          <p:spPr>
            <a:xfrm>
              <a:off x="3065040" y="2149200"/>
              <a:ext cx="5425200" cy="1512720"/>
            </a:xfrm>
            <a:custGeom>
              <a:avLst/>
              <a:gdLst>
                <a:gd name="textAreaLeft" fmla="*/ 0 w 5425200"/>
                <a:gd name="textAreaRight" fmla="*/ 5425560 w 5425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0129" h="2383">
                  <a:moveTo>
                    <a:pt x="9087" y="0"/>
                  </a:moveTo>
                  <a:lnTo>
                    <a:pt x="10129" y="0"/>
                  </a:lnTo>
                  <a:lnTo>
                    <a:pt x="10129" y="2383"/>
                  </a:lnTo>
                  <a:lnTo>
                    <a:pt x="0" y="2383"/>
                  </a:lnTo>
                  <a:lnTo>
                    <a:pt x="0" y="11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41" name="Freeform 12"/>
            <p:cNvSpPr/>
            <p:nvPr/>
          </p:nvSpPr>
          <p:spPr>
            <a:xfrm>
              <a:off x="1070280" y="2022840"/>
              <a:ext cx="7540200" cy="2128320"/>
            </a:xfrm>
            <a:custGeom>
              <a:avLst/>
              <a:gdLst>
                <a:gd name="textAreaLeft" fmla="*/ 0 w 7540200"/>
                <a:gd name="textAreaRight" fmla="*/ 7540560 w 7540200"/>
                <a:gd name="textAreaTop" fmla="*/ 0 h 2128320"/>
                <a:gd name="textAreaBottom" fmla="*/ 2128680 h 2128320"/>
              </a:gdLst>
              <a:ahLst/>
              <a:rect l="textAreaLeft" t="textAreaTop" r="textAreaRight" b="textAreaBottom"/>
              <a:pathLst>
                <a:path w="14077" h="3352">
                  <a:moveTo>
                    <a:pt x="12811" y="0"/>
                  </a:moveTo>
                  <a:lnTo>
                    <a:pt x="14077" y="0"/>
                  </a:lnTo>
                  <a:lnTo>
                    <a:pt x="14077" y="3352"/>
                  </a:lnTo>
                  <a:lnTo>
                    <a:pt x="0" y="3352"/>
                  </a:lnTo>
                  <a:lnTo>
                    <a:pt x="0" y="1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به پایان آمد این دفتر حکایت همچنان باقی است</a:t>
            </a: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.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0000"/>
                </a:solidFill>
                <a:latin typeface="Perpetua"/>
                <a:cs typeface="B Titr"/>
              </a:rPr>
              <a:t>با سپاس از همراهی شما بزرگواران در طول این سفر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9900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44" name="Subtitle 4"/>
          <p:cNvGrpSpPr/>
          <p:nvPr/>
        </p:nvGrpSpPr>
        <p:grpSpPr>
          <a:xfrm>
            <a:off x="285840" y="1285920"/>
            <a:ext cx="8308800" cy="5280120"/>
            <a:chOff x="285840" y="1285920"/>
            <a:chExt cx="8308800" cy="5280120"/>
          </a:xfrm>
        </p:grpSpPr>
        <p:pic>
          <p:nvPicPr>
            <p:cNvPr id="245" name="Subtitle 4" descr=""/>
            <p:cNvPicPr/>
            <p:nvPr/>
          </p:nvPicPr>
          <p:blipFill>
            <a:blip r:embed="rId1"/>
            <a:stretch/>
          </p:blipFill>
          <p:spPr>
            <a:xfrm>
              <a:off x="285840" y="1285920"/>
              <a:ext cx="8308800" cy="52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09480" y="1523880"/>
              <a:ext cx="777240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cs typeface="B Titr"/>
                </a:rPr>
                <a:t>نقش معلم در برنامه درسی ملی 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( صفحه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12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)</a:t>
              </a:r>
              <a:endParaRPr b="0" lang="en-US" sz="12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« برای خلق فرصت های تربیتی و آموزش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]</a:t>
              </a: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cs typeface="B Titr"/>
                </a:rPr>
                <a:t>معلم 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[</a:t>
              </a: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مسئولیت تطبیق، تدوین، اجرا و ارزشیابی برنامه های درسی و تربیتی در سطح کلاس درس را بر عهده دارد»).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>
                  <a:solidFill>
                    <a:srgbClr val="009900"/>
                  </a:solidFill>
                  <a:latin typeface="Perpetua"/>
                  <a:ea typeface="B Titr"/>
                </a:rPr>
                <a:t>« با شناخت و بسط ظرفیت های وجودی دانش آموزان و خلق فرصت های تربیتی و آموزشی زمینه درک و انگیزه اصلاح مداوم موقعیت آنان را  فراهم سازد»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Title 6"/>
          <p:cNvGrpSpPr/>
          <p:nvPr/>
        </p:nvGrpSpPr>
        <p:grpSpPr>
          <a:xfrm>
            <a:off x="853920" y="622440"/>
            <a:ext cx="7888320" cy="2511360"/>
            <a:chOff x="853920" y="622440"/>
            <a:chExt cx="7888320" cy="2511360"/>
          </a:xfrm>
        </p:grpSpPr>
        <p:pic>
          <p:nvPicPr>
            <p:cNvPr id="248" name="Title 6" descr=""/>
            <p:cNvPicPr/>
            <p:nvPr/>
          </p:nvPicPr>
          <p:blipFill>
            <a:blip r:embed="rId1"/>
            <a:stretch/>
          </p:blipFill>
          <p:spPr>
            <a:xfrm>
              <a:off x="853920" y="622440"/>
              <a:ext cx="78883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914400" y="655560"/>
              <a:ext cx="7772400" cy="23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4000" spc="-1" strike="noStrike">
                  <a:solidFill>
                    <a:srgbClr val="f2f2f2"/>
                  </a:solidFill>
                  <a:latin typeface="Franklin Gothic Book"/>
                  <a:cs typeface="B Titr"/>
                </a:rPr>
                <a:t>نقش معلم به عنوان آموزش دهنده موضوعات</a:t>
              </a:r>
              <a:r>
                <a:rPr b="1" lang="fa-IR" sz="4000" spc="-1" strike="noStrike">
                  <a:solidFill>
                    <a:srgbClr val="f2f2f2"/>
                  </a:solidFill>
                  <a:latin typeface="Franklin Gothic Book"/>
                  <a:ea typeface="B Titr"/>
                </a:rPr>
                <a:t> 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50" name="Title 6"/>
          <p:cNvGrpSpPr/>
          <p:nvPr/>
        </p:nvGrpSpPr>
        <p:grpSpPr>
          <a:xfrm>
            <a:off x="785880" y="3693960"/>
            <a:ext cx="8023320" cy="2230560"/>
            <a:chOff x="785880" y="3693960"/>
            <a:chExt cx="8023320" cy="2230560"/>
          </a:xfrm>
        </p:grpSpPr>
        <p:pic>
          <p:nvPicPr>
            <p:cNvPr id="251" name="Title 6" descr=""/>
            <p:cNvPicPr/>
            <p:nvPr/>
          </p:nvPicPr>
          <p:blipFill>
            <a:blip r:embed="rId2"/>
            <a:stretch/>
          </p:blipFill>
          <p:spPr>
            <a:xfrm>
              <a:off x="785880" y="3693960"/>
              <a:ext cx="802332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914400" y="3809880"/>
              <a:ext cx="777240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0" lang="fa-IR" sz="4000" spc="-1" strike="noStrike">
                  <a:solidFill>
                    <a:srgbClr val="e5f6d8"/>
                  </a:solidFill>
                  <a:latin typeface="Franklin Gothic Book"/>
                  <a:cs typeface="B Titr"/>
                </a:rPr>
                <a:t>نقش معلم به عنوان کارگزار  فکور 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138677"/>
                </a:solidFill>
                <a:latin typeface="Franklin Gothic Book"/>
                <a:cs typeface="B Titr"/>
              </a:rPr>
              <a:t>اهداف کارگاه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254" name="Content Placeholder 2" descr=""/>
          <p:cNvPicPr/>
          <p:nvPr/>
        </p:nvPicPr>
        <p:blipFill>
          <a:blip r:embed="rId1"/>
          <a:stretch/>
        </p:blipFill>
        <p:spPr>
          <a:xfrm>
            <a:off x="895320" y="1427040"/>
            <a:ext cx="786456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itle 1"/>
          <p:cNvGrpSpPr/>
          <p:nvPr/>
        </p:nvGrpSpPr>
        <p:grpSpPr>
          <a:xfrm>
            <a:off x="785880" y="158760"/>
            <a:ext cx="8023320" cy="1395360"/>
            <a:chOff x="785880" y="158760"/>
            <a:chExt cx="8023320" cy="1395360"/>
          </a:xfrm>
        </p:grpSpPr>
        <p:pic>
          <p:nvPicPr>
            <p:cNvPr id="256" name="Title 1" descr=""/>
            <p:cNvPicPr/>
            <p:nvPr/>
          </p:nvPicPr>
          <p:blipFill>
            <a:blip r:embed="rId1"/>
            <a:stretch/>
          </p:blipFill>
          <p:spPr>
            <a:xfrm>
              <a:off x="785880" y="158760"/>
              <a:ext cx="8023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914400" y="2746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>
                  <a:solidFill>
                    <a:srgbClr val="138677"/>
                  </a:solidFill>
                  <a:latin typeface="Franklin Gothic Book"/>
                  <a:ea typeface="B Titr"/>
                </a:rPr>
                <a:t> </a:t>
              </a:r>
              <a:r>
                <a:rPr b="0" lang="fa-IR" sz="4000" spc="-1" strike="noStrike">
                  <a:solidFill>
                    <a:srgbClr val="138677"/>
                  </a:solidFill>
                  <a:latin typeface="Franklin Gothic Book"/>
                  <a:cs typeface="B Titr"/>
                </a:rPr>
                <a:t>پرسش ها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58" name="Content Placeholder 2" descr=""/>
          <p:cNvPicPr/>
          <p:nvPr/>
        </p:nvPicPr>
        <p:blipFill>
          <a:blip r:embed="rId2"/>
          <a:stretch/>
        </p:blipFill>
        <p:spPr>
          <a:xfrm>
            <a:off x="822240" y="1427040"/>
            <a:ext cx="793764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Diagram 3" descr=""/>
          <p:cNvPicPr/>
          <p:nvPr/>
        </p:nvPicPr>
        <p:blipFill>
          <a:blip r:embed="rId1"/>
          <a:stretch/>
        </p:blipFill>
        <p:spPr>
          <a:xfrm>
            <a:off x="-60480" y="298440"/>
            <a:ext cx="868680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Diagram 1" descr=""/>
          <p:cNvPicPr/>
          <p:nvPr/>
        </p:nvPicPr>
        <p:blipFill>
          <a:blip r:embed="rId1"/>
          <a:stretch/>
        </p:blipFill>
        <p:spPr>
          <a:xfrm>
            <a:off x="682560" y="384120"/>
            <a:ext cx="8163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mene</dc:creator>
  <dc:description/>
  <dc:language>en-US</dc:language>
  <cp:lastModifiedBy>Marziyeh</cp:lastModifiedBy>
  <dcterms:modified xsi:type="dcterms:W3CDTF">2016-01-11T08:26:23Z</dcterms:modified>
  <cp:revision>110</cp:revision>
  <dc:subject/>
  <dc:title>Slide 1</dc:title>
</cp:coreProperties>
</file>